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2556-7B40-4E50-A331-10190AE87C5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VER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VER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S OF MAIN VER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AK VERB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RONG VERB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MS OF MAIN VERB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in verb that does not need a ‘t’ , ‘d’, ‘ed’ to give its past and past participle forms is called as a strong 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GAV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TOOK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BROK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RONG VER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main verb that does not need a ‘t’ , ‘d’, ‘ed’ to give its past and past participle forms is called as a strong ver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xampl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IVE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- GAVE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IV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AKE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- TOOK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AK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REAK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- BROKE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ROK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a main verb that needs a ‘t’ or ‘d’ to give its pa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past participle forms is called as a weak 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in verb that loses an ‘e’ from its usual form to give the past and past participle forms is called as a weak 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read - read -  read , bleed – bled- b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A verb that does not change its usual form in all the three forms is also called as a weak 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cut, set, p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A main verb that needs an ‘ed’ to form its past and past participle form is called as a weak ver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walk-walked-walked, render-rendered-rend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weak verb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nerally a main verb that needs a ‘t’ or ‘d’ to give its pas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nd past participle forms is called as a weak ver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main verb that loses an ‘e’ from its usual form to give the past and past participle forms is called as a weak ver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.g. read - read -  read , bleed – bled- bl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3. A verb that does not change its usual form in all the three forms is also called as a weak ver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.g. cut, set, 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. A main verb that needs an ‘ed’ to form its past and past participle form is called as a weak verb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.g. walk-walked-walked, render-rendered-rende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at is a weak verb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D8E0-FB83-410E-95D8-0719B53F5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C570-4DE2-44FF-9BCE-0BE38D2C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DEC0-1C0C-462D-B4BD-1BBAC71C7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8057-C9E0-438A-8866-2CB1F3C86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D519-B338-472E-A0BB-39D9BE5BA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3DA7-DC1C-4E6A-9F95-B0FC7AD5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625C-D67F-4BE3-8CD0-285DF590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1B99-5DA9-4948-8D22-1D777C7E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5EB5-B248-4B69-B809-5C2A26AF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D33B-53FF-42AD-B925-D01F190C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D556-A651-46E1-94D8-23D27B5E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43F2-F1BE-42BA-95F7-84BCE851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E67B-6A0A-4BD2-B476-8AFC4B75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2C41-4640-4CDB-94D7-05328ED2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DA49-7F92-419F-BEE1-5922F6A4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89B3-2238-4F08-B492-0BEBB6BD0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B5E7-D44F-4194-AD93-77D777E21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6416-83ED-44BA-A311-84582C95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1B35-1E30-42D7-86E3-90FE06D8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DCEC-E6CB-49C0-8545-7C4A5ED4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2330-B27C-4216-A171-B18EEAB8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A930-CA72-47E7-83DA-D7609E6E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6E26-1B67-460D-8575-384F7FDA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6EA3-9284-4C8F-B28E-A31097F9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CB4B-F1D7-466F-8845-D9E173A8DB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0A96-AE5A-4A6B-84AA-55CBCFFDB6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685800" y="152280"/>
          <a:ext cx="5181480" cy="6675480"/>
        </p:xfrm>
        <a:graphic>
          <a:graphicData uri="http://schemas.openxmlformats.org/drawingml/2006/table">
            <a:tbl>
              <a:tblPr/>
              <a:tblGrid>
                <a:gridCol w="1612800"/>
                <a:gridCol w="1494000"/>
                <a:gridCol w="2074680"/>
              </a:tblGrid>
              <a:tr h="36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ffff"/>
                          </a:solidFill>
                          <a:latin typeface="Tahoma"/>
                        </a:rPr>
                        <a:t>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ffff"/>
                          </a:solidFill>
                          <a:latin typeface="Tahoma"/>
                        </a:rPr>
                        <a:t>PA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66ffff"/>
                          </a:solidFill>
                          <a:latin typeface="Tahoma"/>
                        </a:rPr>
                        <a:t>PAST PARTICIP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GIV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GAV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GIV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TAK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TOOK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TAK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BREAK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BROK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BROK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SHAK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SHOO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SHAK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WAK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WOK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WOK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R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R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R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U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SEE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S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S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R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R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R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IL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IL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IL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ME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M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M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RE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RE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RE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BL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BL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BL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LE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L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L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C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C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C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L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L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L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P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P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P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S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S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S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WAL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WALK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WALK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TAL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TALK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TALK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grpSp>
        <p:nvGrpSpPr>
          <p:cNvPr id="96" name="Group 92"/>
          <p:cNvGrpSpPr/>
          <p:nvPr/>
        </p:nvGrpSpPr>
        <p:grpSpPr>
          <a:xfrm>
            <a:off x="6019920" y="2133720"/>
            <a:ext cx="761760" cy="4266000"/>
            <a:chOff x="6019920" y="2133720"/>
            <a:chExt cx="761760" cy="4266000"/>
          </a:xfrm>
        </p:grpSpPr>
        <p:sp>
          <p:nvSpPr>
            <p:cNvPr id="97" name="Line 93"/>
            <p:cNvSpPr/>
            <p:nvPr/>
          </p:nvSpPr>
          <p:spPr>
            <a:xfrm>
              <a:off x="6019920" y="2133720"/>
              <a:ext cx="492840" cy="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Line 94"/>
            <p:cNvSpPr/>
            <p:nvPr/>
          </p:nvSpPr>
          <p:spPr>
            <a:xfrm>
              <a:off x="6019920" y="6399720"/>
              <a:ext cx="492840" cy="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Line 95"/>
            <p:cNvSpPr/>
            <p:nvPr/>
          </p:nvSpPr>
          <p:spPr>
            <a:xfrm>
              <a:off x="6512760" y="2133720"/>
              <a:ext cx="0" cy="426600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Line 96"/>
            <p:cNvSpPr/>
            <p:nvPr/>
          </p:nvSpPr>
          <p:spPr>
            <a:xfrm>
              <a:off x="6512760" y="4266000"/>
              <a:ext cx="268920" cy="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1" name="Text Box 97"/>
          <p:cNvSpPr/>
          <p:nvPr/>
        </p:nvSpPr>
        <p:spPr>
          <a:xfrm>
            <a:off x="7086600" y="40384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ff"/>
                </a:solidFill>
                <a:latin typeface="Arial"/>
              </a:rPr>
              <a:t>WEAK VERB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2" name="Group 98"/>
          <p:cNvGrpSpPr/>
          <p:nvPr/>
        </p:nvGrpSpPr>
        <p:grpSpPr>
          <a:xfrm>
            <a:off x="6019920" y="609480"/>
            <a:ext cx="685440" cy="1219320"/>
            <a:chOff x="6019920" y="609480"/>
            <a:chExt cx="685440" cy="1219320"/>
          </a:xfrm>
        </p:grpSpPr>
        <p:sp>
          <p:nvSpPr>
            <p:cNvPr id="103" name="Line 99"/>
            <p:cNvSpPr/>
            <p:nvPr/>
          </p:nvSpPr>
          <p:spPr>
            <a:xfrm>
              <a:off x="6019920" y="609480"/>
              <a:ext cx="443520" cy="0"/>
            </a:xfrm>
            <a:prstGeom prst="line">
              <a:avLst/>
            </a:prstGeom>
            <a:ln w="381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Line 100"/>
            <p:cNvSpPr/>
            <p:nvPr/>
          </p:nvSpPr>
          <p:spPr>
            <a:xfrm>
              <a:off x="6019920" y="1828800"/>
              <a:ext cx="443520" cy="0"/>
            </a:xfrm>
            <a:prstGeom prst="line">
              <a:avLst/>
            </a:prstGeom>
            <a:ln w="381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Line 101"/>
            <p:cNvSpPr/>
            <p:nvPr/>
          </p:nvSpPr>
          <p:spPr>
            <a:xfrm>
              <a:off x="6463440" y="609480"/>
              <a:ext cx="0" cy="1219320"/>
            </a:xfrm>
            <a:prstGeom prst="line">
              <a:avLst/>
            </a:prstGeom>
            <a:ln w="381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Line 102"/>
            <p:cNvSpPr/>
            <p:nvPr/>
          </p:nvSpPr>
          <p:spPr>
            <a:xfrm>
              <a:off x="6463440" y="1197360"/>
              <a:ext cx="241920" cy="0"/>
            </a:xfrm>
            <a:prstGeom prst="line">
              <a:avLst/>
            </a:prstGeom>
            <a:ln w="38160">
              <a:solidFill>
                <a:srgbClr val="ff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7" name="Text Box 103"/>
          <p:cNvSpPr/>
          <p:nvPr/>
        </p:nvSpPr>
        <p:spPr>
          <a:xfrm>
            <a:off x="6705720" y="990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Arial"/>
              </a:rPr>
              <a:t>STRONG VERB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104"/>
          <p:cNvSpPr/>
          <p:nvPr/>
        </p:nvSpPr>
        <p:spPr>
          <a:xfrm>
            <a:off x="6705720" y="2514600"/>
            <a:ext cx="236196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6e3c"/>
                </a:solidFill>
                <a:latin typeface="Georgia"/>
              </a:rPr>
              <a:t>FORMS OF MAIN</a:t>
            </a:r>
            <a:r>
              <a:rPr b="1" lang="en-US" sz="2400" spc="-1" strike="noStrike">
                <a:solidFill>
                  <a:srgbClr val="edc5b1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d26e3c"/>
                </a:solidFill>
                <a:latin typeface="Georgia"/>
              </a:rPr>
              <a:t>VERB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9" name="Group 105"/>
          <p:cNvGrpSpPr/>
          <p:nvPr/>
        </p:nvGrpSpPr>
        <p:grpSpPr>
          <a:xfrm>
            <a:off x="104760" y="647280"/>
            <a:ext cx="495000" cy="5181840"/>
            <a:chOff x="104760" y="647280"/>
            <a:chExt cx="495000" cy="5181840"/>
          </a:xfrm>
        </p:grpSpPr>
        <p:sp>
          <p:nvSpPr>
            <p:cNvPr id="110" name="Text Box 106"/>
            <p:cNvSpPr/>
            <p:nvPr/>
          </p:nvSpPr>
          <p:spPr>
            <a:xfrm>
              <a:off x="152280" y="762120"/>
              <a:ext cx="381240" cy="495288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I     R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G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V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E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S</a:t>
              </a: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1" name="Group 107"/>
            <p:cNvGrpSpPr/>
            <p:nvPr/>
          </p:nvGrpSpPr>
          <p:grpSpPr>
            <a:xfrm>
              <a:off x="104760" y="647280"/>
              <a:ext cx="495000" cy="5181840"/>
              <a:chOff x="104760" y="647280"/>
              <a:chExt cx="495000" cy="5181840"/>
            </a:xfrm>
          </p:grpSpPr>
          <p:sp>
            <p:nvSpPr>
              <p:cNvPr id="112" name="Line 108"/>
              <p:cNvSpPr/>
              <p:nvPr/>
            </p:nvSpPr>
            <p:spPr>
              <a:xfrm flipH="1">
                <a:off x="106200" y="5829120"/>
                <a:ext cx="493560" cy="0"/>
              </a:xfrm>
              <a:prstGeom prst="line">
                <a:avLst/>
              </a:prstGeom>
              <a:ln w="381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Line 109"/>
              <p:cNvSpPr/>
              <p:nvPr/>
            </p:nvSpPr>
            <p:spPr>
              <a:xfrm flipH="1">
                <a:off x="104760" y="647640"/>
                <a:ext cx="493920" cy="0"/>
              </a:xfrm>
              <a:prstGeom prst="line">
                <a:avLst/>
              </a:prstGeom>
              <a:ln w="381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Line 110"/>
              <p:cNvSpPr/>
              <p:nvPr/>
            </p:nvSpPr>
            <p:spPr>
              <a:xfrm flipV="1">
                <a:off x="106560" y="647280"/>
                <a:ext cx="0" cy="5181480"/>
              </a:xfrm>
              <a:prstGeom prst="line">
                <a:avLst/>
              </a:prstGeom>
              <a:ln w="381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3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3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52280" y="2057400"/>
            <a:ext cx="8839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daff"/>
                </a:solidFill>
                <a:latin typeface="Arial"/>
              </a:rPr>
              <a:t>STRONG VER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3daff"/>
                </a:solidFill>
                <a:latin typeface="Arial"/>
              </a:rPr>
              <a:t>a main verb that does not need a ‘t’ , ‘d’, ‘ed’ to give its past and past participle forms is called as a strong ver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828800" y="3962520"/>
            <a:ext cx="5486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V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GAV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V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TOOK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EAK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BROK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OK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974880"/>
            <a:ext cx="9144000" cy="59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lly a main verb that needs a ‘t’ or ‘d’ to give its pas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past participle forms is called as a weak ver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e9f4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f4d8"/>
                </a:solidFill>
                <a:latin typeface="Arial"/>
              </a:rPr>
              <a:t>A main verb that loses an ‘e’ from its usual form to give the past and past participle forms is called as a weak ver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f4d8"/>
                </a:solidFill>
                <a:latin typeface="Arial"/>
              </a:rPr>
              <a:t>e.g. read - read -  read , bleed – bled- bl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3daff"/>
                </a:solidFill>
                <a:latin typeface="Arial"/>
              </a:rPr>
              <a:t>3. A verb that does not change its usual form in all the three forms is also called as a weak ver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3daff"/>
                </a:solidFill>
                <a:latin typeface="Arial"/>
              </a:rPr>
              <a:t>e.g. cut, set, pu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4. A main verb that needs an ‘ed’ to form its past and past participle form is called as a weak verb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e.g. walk-walked-walked, render-rendered-render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981080" y="228600"/>
            <a:ext cx="4953240" cy="64260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What is a weak verb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3:43:03Z</dcterms:created>
  <dc:creator>CONTINENTAL ACADEMY</dc:creator>
  <dc:description/>
  <dc:language>en-US</dc:language>
  <cp:lastModifiedBy>RomaK</cp:lastModifiedBy>
  <dcterms:modified xsi:type="dcterms:W3CDTF">2015-09-02T09:48:17Z</dcterms:modified>
  <cp:revision>4</cp:revision>
  <dc:subject/>
  <dc:title>Slide 1</dc:title>
</cp:coreProperties>
</file>